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9.pct" ContentType="image/x-pict"/>
  <Override PartName="/ppt/media/image8.png" ContentType="image/png"/>
  <Override PartName="/ppt/media/image13.png" ContentType="image/png"/>
  <Override PartName="/ppt/media/image18.pct" ContentType="image/x-pict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2.jpeg" ContentType="image/jpeg"/>
  <Override PartName="/ppt/media/image20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40D-7FDA-4E9A-9796-30FD1B49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4DC-9123-46C0-B947-20898E08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DE2-579F-42F5-9B8C-3ADBB906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82E-F38B-4F4D-964B-875D18CC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4E7-AF52-4047-93A7-FC85599A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8E6-4442-4DDB-BBFD-FA9ECDC6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B4C-2536-4279-90F9-F7B26FA7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E4F-DF05-46DE-AF30-CDB18267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FCB-0BDE-42E6-A9A0-3E22E155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E84-58E7-4DF9-BC94-EA251D41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325-7A62-4977-B9F8-F8692B01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BCA-33C4-49C5-991C-8C22BF02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FB7AD-6783-45C6-8E8D-E836459B64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08F45-F551-4BDB-AF06-CF13E7E10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ct"/><Relationship Id="rId7" Type="http://schemas.openxmlformats.org/officeDocument/2006/relationships/image" Target="../media/image19.pct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" name="Picture 15" descr="Lever"/>
          <p:cNvPicPr/>
          <p:nvPr/>
        </p:nvPicPr>
        <p:blipFill>
          <a:blip r:embed="rId1"/>
          <a:srcRect l="0" t="26580" r="0" b="6859"/>
          <a:stretch/>
        </p:blipFill>
        <p:spPr>
          <a:xfrm>
            <a:off x="6894360" y="5651640"/>
            <a:ext cx="1865520" cy="825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rivewheel"/>
          <p:cNvPicPr/>
          <p:nvPr/>
        </p:nvPicPr>
        <p:blipFill>
          <a:blip r:embed="rId2"/>
          <a:stretch/>
        </p:blipFill>
        <p:spPr>
          <a:xfrm>
            <a:off x="7580160" y="3949560"/>
            <a:ext cx="117972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mage001"/>
          <p:cNvPicPr/>
          <p:nvPr/>
        </p:nvPicPr>
        <p:blipFill>
          <a:blip r:embed="rId3"/>
          <a:stretch/>
        </p:blipFill>
        <p:spPr>
          <a:xfrm>
            <a:off x="6680160" y="2232000"/>
            <a:ext cx="2079720" cy="110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u-rail-screw-white"/>
          <p:cNvPicPr/>
          <p:nvPr/>
        </p:nvPicPr>
        <p:blipFill>
          <a:blip r:embed="rId4"/>
          <a:stretch/>
        </p:blipFill>
        <p:spPr>
          <a:xfrm>
            <a:off x="4438800" y="20574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onkey_pulley_weight"/>
          <p:cNvPicPr/>
          <p:nvPr/>
        </p:nvPicPr>
        <p:blipFill>
          <a:blip r:embed="rId5"/>
          <a:stretch/>
        </p:blipFill>
        <p:spPr>
          <a:xfrm>
            <a:off x="4572000" y="3809880"/>
            <a:ext cx="853920" cy="1257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Well%20on%20Rue%20Toulouse%20pulley%20P6200174"/>
          <p:cNvPicPr/>
          <p:nvPr/>
        </p:nvPicPr>
        <p:blipFill>
          <a:blip r:embed="rId6"/>
          <a:stretch/>
        </p:blipFill>
        <p:spPr>
          <a:xfrm>
            <a:off x="4438800" y="5651640"/>
            <a:ext cx="1430280" cy="107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7"/>
          <a:stretch/>
        </p:blipFill>
        <p:spPr>
          <a:xfrm>
            <a:off x="4365720" y="303120"/>
            <a:ext cx="1488960" cy="1322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8"/>
          <a:stretch/>
        </p:blipFill>
        <p:spPr>
          <a:xfrm>
            <a:off x="1409760" y="2057400"/>
            <a:ext cx="857160" cy="1238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9"/>
          <a:stretch/>
        </p:blipFill>
        <p:spPr>
          <a:xfrm>
            <a:off x="2241720" y="3763800"/>
            <a:ext cx="69048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10"/>
          <a:stretch/>
        </p:blipFill>
        <p:spPr>
          <a:xfrm>
            <a:off x="262080" y="5769000"/>
            <a:ext cx="2295360" cy="95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11"/>
          <a:stretch/>
        </p:blipFill>
        <p:spPr>
          <a:xfrm>
            <a:off x="1882800" y="744480"/>
            <a:ext cx="674640" cy="74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"/>
          <p:cNvPicPr/>
          <p:nvPr/>
        </p:nvPicPr>
        <p:blipFill>
          <a:blip r:embed="rId12"/>
          <a:stretch/>
        </p:blipFill>
        <p:spPr>
          <a:xfrm>
            <a:off x="7491240" y="438120"/>
            <a:ext cx="146232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wo simple machines are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wo simple machines are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is pictured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14" descr=""/>
          <p:cNvPicPr/>
          <p:nvPr/>
        </p:nvPicPr>
        <p:blipFill>
          <a:blip r:embed="rId1"/>
          <a:srcRect l="0" t="15061" r="0" b="0"/>
          <a:stretch/>
        </p:blipFill>
        <p:spPr>
          <a:xfrm>
            <a:off x="800280" y="571680"/>
            <a:ext cx="2187360" cy="11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7848720" y="5537160"/>
            <a:ext cx="1041120" cy="111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1625760" y="5473800"/>
            <a:ext cx="966600" cy="132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A:\pulley.jpg"/>
          <p:cNvPicPr/>
          <p:nvPr/>
        </p:nvPicPr>
        <p:blipFill>
          <a:blip r:embed="rId4"/>
          <a:stretch/>
        </p:blipFill>
        <p:spPr>
          <a:xfrm>
            <a:off x="4740120" y="5473800"/>
            <a:ext cx="827280" cy="123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A:\hammer.gif"/>
          <p:cNvPicPr/>
          <p:nvPr/>
        </p:nvPicPr>
        <p:blipFill>
          <a:blip r:embed="rId5"/>
          <a:srcRect l="41463" t="20937" r="0" b="0"/>
          <a:stretch/>
        </p:blipFill>
        <p:spPr>
          <a:xfrm>
            <a:off x="4978440" y="37530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D:\IMAGES.WMF\TOOLS\HAND\TOLHN052.WMF"/>
          <p:cNvPicPr/>
          <p:nvPr/>
        </p:nvPicPr>
        <p:blipFill>
          <a:blip r:embed="rId6"/>
          <a:stretch/>
        </p:blipFill>
        <p:spPr>
          <a:xfrm>
            <a:off x="5981760" y="4273560"/>
            <a:ext cx="320040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D:\IMAGES.WMF\EDU\SUPPLIES\EDUSU039.WMF"/>
          <p:cNvPicPr/>
          <p:nvPr/>
        </p:nvPicPr>
        <p:blipFill>
          <a:blip r:embed="rId7"/>
          <a:stretch/>
        </p:blipFill>
        <p:spPr>
          <a:xfrm flipH="1" rot="10800000">
            <a:off x="4572000" y="2152440"/>
            <a:ext cx="1006560" cy="109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8"/>
          <a:stretch/>
        </p:blipFill>
        <p:spPr>
          <a:xfrm>
            <a:off x="7429680" y="2006640"/>
            <a:ext cx="1498320" cy="128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9"/>
          <a:stretch/>
        </p:blipFill>
        <p:spPr>
          <a:xfrm>
            <a:off x="1544760" y="2197080"/>
            <a:ext cx="1420560" cy="1117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10"/>
          <a:stretch/>
        </p:blipFill>
        <p:spPr>
          <a:xfrm>
            <a:off x="1549440" y="3886200"/>
            <a:ext cx="1130400" cy="113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11"/>
          <a:srcRect l="0" t="0" r="0" b="41033"/>
          <a:stretch/>
        </p:blipFill>
        <p:spPr>
          <a:xfrm flipH="1">
            <a:off x="4965480" y="299880"/>
            <a:ext cx="887400" cy="11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"/>
          <p:cNvPicPr/>
          <p:nvPr/>
        </p:nvPicPr>
        <p:blipFill>
          <a:blip r:embed="rId12"/>
          <a:stretch/>
        </p:blipFill>
        <p:spPr>
          <a:xfrm>
            <a:off x="7467480" y="322200"/>
            <a:ext cx="14605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simple machines change the amount of work being do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simple machines change the distance the object is mov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simple machines change the direction of the forc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simple machines change the input force to move an objec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 we call a machine made of more than one simple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 scientists call the amount of force applied to an object to move it a distanc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wo simple machines make up this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is a simple or a compound machi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512120" y="2298600"/>
            <a:ext cx="1174680" cy="889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4165560" y="3735360"/>
            <a:ext cx="1765440" cy="1249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7042320" y="3790800"/>
            <a:ext cx="1701720" cy="119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4"/>
          <a:stretch/>
        </p:blipFill>
        <p:spPr>
          <a:xfrm>
            <a:off x="3886200" y="5627520"/>
            <a:ext cx="1371600" cy="8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5"/>
          <a:stretch/>
        </p:blipFill>
        <p:spPr>
          <a:xfrm>
            <a:off x="7702560" y="5457960"/>
            <a:ext cx="958680" cy="132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6"/>
          <a:stretch/>
        </p:blipFill>
        <p:spPr>
          <a:xfrm>
            <a:off x="1122480" y="5448240"/>
            <a:ext cx="17985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9087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an inclined plane change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decreases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distance and decreases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force and decreases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wedge change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decreases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distance and decreases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force and decreases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a wheel and axle change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decreases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distance and decreases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force and decreases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a screw change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decreases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distance and decreases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ncreases force and decreases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 screws the cap to his Gatorade back on. It will be easier to screw on the cap than to push it down beca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The screw increases the force he needs but decreases the distan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The screw increases the distance he needs but decreases the for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The screw increases the distance and for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. Smith turns the steering wheel.  It is easier to turn the steering wheel than the steering column beca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The wheel increases the force she needs but decreases the distan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The wheel increases the distance she needs but decreases the for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The wheel increases the distance and for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s easier to push a box up a ramp beca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The ramp increases the distance you needs but decreases the for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The ramp increases the distance and for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The ramp increases the force you need but decreases the distan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doorstop is able to hold open a heavy door beca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The ramp increases the distance you needs but decreases the for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The ramp increases the distance and for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The ramp increases the force you need but decreases the distan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 wedge is used to do work, which of the following decreas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n inclined plane is used to do work which of the following decreas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 wheel and axle is used to do work which of the following decreas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 screw is used to do work which of the following decreas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4000" cy="68245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mes used a ramp to lift a desk into a truck.  If he lifted the desk without the ramp would he have done more work, less work, or the same amount of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onstruction worker uses a screw to attach two boards together. If he uses a nail instead will he have done more work, less work, or the same amount of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 used an axe to split a block of wood.  If he was able to split the wood without the axe would he have done more work, less work, or the same amount of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ce x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ce ÷ dista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ce +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ce −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que turns a wheel. If she turned the axle instead will he have done more work, less work, or the same amount of work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wheel turns  _______ distance than/as the ax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on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h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3 things can simple machines chang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type of simple machine are wedges and screws also classified a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 wedge is used to do work, which of the following increas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n inclined plane is used to do work which of the following increas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 wheel and axle is used to do work which of the following increas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 screw is used to do work which of the following increas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1:52:51Z</dcterms:created>
  <dc:creator>Caroline Roth</dc:creator>
  <dc:description/>
  <dc:language>en-US</dc:language>
  <cp:lastModifiedBy>Caroline Roth</cp:lastModifiedBy>
  <cp:lastPrinted>2011-02-10T03:42:45Z</cp:lastPrinted>
  <dcterms:modified xsi:type="dcterms:W3CDTF">2011-02-25T12:26:26Z</dcterms:modified>
  <cp:revision>9</cp:revision>
  <dc:subject/>
  <dc:title>Slide 1</dc:title>
</cp:coreProperties>
</file>